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4B8-4C26-4D9D-8C60-705ED88C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B21-9568-41F5-8B88-007EADC7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BF2-1503-4B32-91E1-353C4B10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30F-07E5-496C-ACA7-2A71145C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F0F-62AB-45A6-B340-65E3F19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D3C-EAA9-4972-AB7C-98C03F2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EC9-95D6-439E-9BAF-260D045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A77-2DF6-4FC6-BF1D-77815B7E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2CB-3A1B-4B58-8AF6-6CD0072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3CD-ECA3-442A-BC5A-9F37323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9CA-E75E-4E58-AE5E-415C65F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3F5-9C1A-4824-8D9C-90C750D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B1312-D604-4797-809D-82C9DF57CF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A345B-2F05-4B7F-BF7A-A2F6D8F16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oustonherald.com/news/electric-cooperatives-battling-copper-thefts/article_152b91ea-dc8e-11e0-ba4d-001cc4c002e0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mplest Matter,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n el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n example of an e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rows called on the periodic t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olumn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an atomic number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soto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element do these isotop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the red particl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the white particles repres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are the red and white particles located within an at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Hydrogen Isotopes.JPG"/>
          <p:cNvPicPr/>
          <p:nvPr/>
        </p:nvPicPr>
        <p:blipFill>
          <a:blip r:embed="rId1"/>
          <a:srcRect l="0" t="-22139" r="0" b="-2213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you find an atom’s mass numb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Prot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Deuter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mass number of Tritiu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Hydrogen Isotopes.JPG"/>
          <p:cNvPicPr/>
          <p:nvPr/>
        </p:nvPicPr>
        <p:blipFill>
          <a:blip r:embed="rId1"/>
          <a:srcRect l="0" t="-22139" r="0" b="-2213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mass is the weighted average mass of the isotopes of an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Lithium.jpg"/>
          <p:cNvPicPr/>
          <p:nvPr/>
        </p:nvPicPr>
        <p:blipFill>
          <a:blip r:embed="rId1"/>
          <a:srcRect l="0" t="-6029" r="0" b="-6029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od conductors of heat and electri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anyone tell me which two metals are used in electric distribution lin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lectric Cooperatives Battling Copper Thef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id at room temperature (except?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leable: Can be bent or poun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ctile: Can be drawn into wires without brea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Nonmetal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or conductors of heat and electri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ses at room temperature (except?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tle: Cannot change shape eas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We are made up of mostly nonmetals (Carbon-18.5%, Calcium-1.5%, Nitrogen-3.2%, Hydrogen-9.5%, Other elements-2.3%, Oxygen-6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Element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llo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characteristics of metals and non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nductors of heat and electricity, but not as good as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at room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on V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 algn="ctr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Silicon Computer Chip.jpg"/>
          <p:cNvPicPr/>
          <p:nvPr/>
        </p:nvPicPr>
        <p:blipFill>
          <a:blip r:embed="rId1"/>
          <a:stretch/>
        </p:blipFill>
        <p:spPr>
          <a:xfrm>
            <a:off x="5832360" y="4267080"/>
            <a:ext cx="31086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22:00Z</dcterms:created>
  <dc:creator>Cleophis Carson</dc:creator>
  <dc:description/>
  <dc:language>en-US</dc:language>
  <cp:lastModifiedBy>Cleophis Carson</cp:lastModifiedBy>
  <dcterms:modified xsi:type="dcterms:W3CDTF">2011-09-12T10:03:57Z</dcterms:modified>
  <cp:revision>1</cp:revision>
  <dc:subject/>
  <dc:title>The Simplest Matter, Part 2</dc:title>
</cp:coreProperties>
</file>